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801600" cy="9601200"/>
  <p:notesSz cx="9939338" cy="6807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5BAEB-5808-4811-B732-2E54B125B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39720" y="2241720"/>
            <a:ext cx="11522160" cy="3021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39720" y="5550120"/>
            <a:ext cx="11522160" cy="3021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62EE7-F47F-413E-B9DF-79601BC2C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39720" y="2241720"/>
            <a:ext cx="5622480" cy="3021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543720" y="2241720"/>
            <a:ext cx="5622480" cy="3021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39720" y="5550120"/>
            <a:ext cx="5622480" cy="3021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543720" y="5550120"/>
            <a:ext cx="5622480" cy="3021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CF28A-249F-46D5-BF7C-E70129C13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39720" y="2241720"/>
            <a:ext cx="3709800" cy="3021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35280" y="2241720"/>
            <a:ext cx="3709800" cy="3021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431200" y="2241720"/>
            <a:ext cx="3709800" cy="3021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39720" y="5550120"/>
            <a:ext cx="3709800" cy="3021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535280" y="5550120"/>
            <a:ext cx="3709800" cy="3021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431200" y="5550120"/>
            <a:ext cx="3709800" cy="3021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12669-0999-43CD-8A8B-6F16FE125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39720" y="2241720"/>
            <a:ext cx="11522160" cy="63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1158F-1C60-43BB-92CB-6D590A8AC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39720" y="2241720"/>
            <a:ext cx="11522160" cy="63338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B668B-F9A1-4B80-A967-30EF0AAA5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39720" y="2241720"/>
            <a:ext cx="5622480" cy="63338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543720" y="2241720"/>
            <a:ext cx="5622480" cy="63338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26CEB-16EE-4F01-A49A-E2AA081BE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56287-E386-46CC-859D-922E759A3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39720" y="383760"/>
            <a:ext cx="1152216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9D786-751A-49A1-A1F0-806835D5E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39720" y="2241720"/>
            <a:ext cx="5622480" cy="3021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543720" y="2241720"/>
            <a:ext cx="5622480" cy="63338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39720" y="5550120"/>
            <a:ext cx="5622480" cy="3021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E8CC2-FD90-49AC-8904-8BDB5530D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39720" y="2241720"/>
            <a:ext cx="5622480" cy="63338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543720" y="2241720"/>
            <a:ext cx="5622480" cy="3021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543720" y="5550120"/>
            <a:ext cx="5622480" cy="3021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59907-481C-41E1-ACA7-8FE22B421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39720" y="2241720"/>
            <a:ext cx="5622480" cy="3021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543720" y="2241720"/>
            <a:ext cx="5622480" cy="3021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39720" y="5550120"/>
            <a:ext cx="11522160" cy="3021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27892-FD14-495B-8996-F515E6C80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39720" y="2241720"/>
            <a:ext cx="11522160" cy="63338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marL="479520" indent="-47952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1" marL="1039680" indent="-398160"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2" marL="1598760" indent="-31932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3" marL="2239920" indent="-318960"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4" marL="2879640" indent="-318960"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5" marL="2879640" indent="-318960"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6" marL="2879640" indent="-318960"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9360" y="8742240"/>
            <a:ext cx="2987640" cy="666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373640" y="8742240"/>
            <a:ext cx="4054320" cy="666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173880" y="8742240"/>
            <a:ext cx="2987640" cy="666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4494B-8316-43AC-BF5F-2DEB04E6B4F6}" type="slidenum">
              <a:rPr b="0" lang="en-US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9720" y="1560600"/>
          <a:ext cx="11522160" cy="6342120"/>
        </p:xfrm>
        <a:graphic>
          <a:graphicData uri="http://schemas.openxmlformats.org/drawingml/2006/table">
            <a:tbl>
              <a:tblPr/>
              <a:tblGrid>
                <a:gridCol w="3840120"/>
                <a:gridCol w="3841920"/>
                <a:gridCol w="3840120"/>
              </a:tblGrid>
              <a:tr h="2322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16</a:t>
                      </a:r>
                      <a:r>
                        <a:rPr b="0" lang="ja-JP" sz="8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歳未満　内因ルート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16</a:t>
                      </a:r>
                      <a:r>
                        <a:rPr b="0" lang="ja-JP" sz="8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歳未満　外傷ルート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16</a:t>
                      </a:r>
                      <a:r>
                        <a:rPr b="0" lang="ja-JP" sz="8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歳以上　内因ルート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</a:tr>
              <a:tr h="6109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" name="Rectangle 4"/>
          <p:cNvSpPr/>
          <p:nvPr/>
        </p:nvSpPr>
        <p:spPr>
          <a:xfrm>
            <a:off x="5565600" y="372960"/>
            <a:ext cx="1800360" cy="37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Ｐゴシック"/>
              </a:rPr>
              <a:t>診察券番号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5565600" y="974880"/>
            <a:ext cx="1800360" cy="37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Ｐゴシック"/>
              </a:rPr>
              <a:t>生年月日</a:t>
            </a:r>
            <a:r>
              <a:rPr b="0" lang="en-US" sz="800" spc="-1" strike="noStrike">
                <a:solidFill>
                  <a:srgbClr val="000000"/>
                </a:solidFill>
                <a:latin typeface="ＭＳ Ｐゴシック"/>
              </a:rPr>
              <a:t>/</a:t>
            </a:r>
            <a:r>
              <a:rPr b="0" lang="ja-JP" sz="800" spc="-1" strike="noStrike">
                <a:solidFill>
                  <a:srgbClr val="000000"/>
                </a:solidFill>
                <a:latin typeface="ＭＳ Ｐゴシック"/>
              </a:rPr>
              <a:t>性別</a:t>
            </a:r>
            <a:r>
              <a:rPr b="0" lang="en-US" sz="800" spc="-1" strike="noStrike">
                <a:solidFill>
                  <a:srgbClr val="000000"/>
                </a:solidFill>
                <a:latin typeface="ＭＳ Ｐゴシック"/>
              </a:rPr>
              <a:t>/</a:t>
            </a:r>
            <a:r>
              <a:rPr b="0" lang="ja-JP" sz="800" spc="-1" strike="noStrike">
                <a:solidFill>
                  <a:srgbClr val="000000"/>
                </a:solidFill>
                <a:latin typeface="ＭＳ Ｐゴシック"/>
              </a:rPr>
              <a:t>体重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1792440" y="2128680"/>
            <a:ext cx="1439640" cy="179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Ｐゴシック"/>
              </a:rPr>
              <a:t>全身状態一般</a:t>
            </a:r>
            <a:r>
              <a:rPr b="0" lang="en-US" sz="800" spc="-1" strike="noStrike">
                <a:solidFill>
                  <a:srgbClr val="000000"/>
                </a:solidFill>
                <a:latin typeface="ＭＳ Ｐゴシック"/>
              </a:rPr>
              <a:t>Q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8"/>
          <p:cNvSpPr/>
          <p:nvPr/>
        </p:nvSpPr>
        <p:spPr>
          <a:xfrm>
            <a:off x="1792440" y="3613320"/>
            <a:ext cx="1439640" cy="179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Ｐゴシック"/>
              </a:rPr>
              <a:t>気になる症状</a:t>
            </a:r>
            <a:r>
              <a:rPr b="0" lang="en-US" sz="800" spc="-1" strike="noStrike">
                <a:solidFill>
                  <a:srgbClr val="000000"/>
                </a:solidFill>
                <a:latin typeface="ＭＳ Ｐゴシック"/>
              </a:rPr>
              <a:t> ※</a:t>
            </a:r>
            <a:r>
              <a:rPr b="0" lang="ja-JP" sz="800" spc="-1" strike="noStrike">
                <a:solidFill>
                  <a:srgbClr val="000000"/>
                </a:solidFill>
                <a:latin typeface="ＭＳ Ｐゴシック"/>
              </a:rPr>
              <a:t>最大３つ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9"/>
          <p:cNvSpPr/>
          <p:nvPr/>
        </p:nvSpPr>
        <p:spPr>
          <a:xfrm>
            <a:off x="2871720" y="5302080"/>
            <a:ext cx="1440000" cy="179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Ｐゴシック"/>
              </a:rPr>
              <a:t>症状の詳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1792440" y="7159680"/>
            <a:ext cx="1439640" cy="179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Ｐゴシック"/>
              </a:rPr>
              <a:t>既往歴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" name="AutoShape 13"/>
          <p:cNvCxnSpPr>
            <a:stCxn id="49" idx="2"/>
            <a:endCxn id="50" idx="0"/>
          </p:cNvCxnSpPr>
          <p:nvPr/>
        </p:nvCxnSpPr>
        <p:spPr>
          <a:xfrm flipH="1" rot="16200000">
            <a:off x="6238440" y="5682600"/>
            <a:ext cx="397080" cy="1440"/>
          </a:xfrm>
          <a:prstGeom prst="bentConnector3">
            <a:avLst>
              <a:gd name="adj1" fmla="val 4981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" name="AutoShape 14"/>
          <p:cNvCxnSpPr>
            <a:stCxn id="42" idx="2"/>
            <a:endCxn id="43" idx="0"/>
          </p:cNvCxnSpPr>
          <p:nvPr/>
        </p:nvCxnSpPr>
        <p:spPr>
          <a:xfrm rot="16200000">
            <a:off x="6353640" y="862920"/>
            <a:ext cx="22428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" name="AutoShape 16"/>
          <p:cNvCxnSpPr>
            <a:stCxn id="45" idx="2"/>
            <a:endCxn id="53" idx="0"/>
          </p:cNvCxnSpPr>
          <p:nvPr/>
        </p:nvCxnSpPr>
        <p:spPr>
          <a:xfrm rot="5400000">
            <a:off x="2201400" y="4102560"/>
            <a:ext cx="621000" cy="1080"/>
          </a:xfrm>
          <a:prstGeom prst="bentConnector3">
            <a:avLst>
              <a:gd name="adj1" fmla="val 4994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AutoShape 17"/>
          <p:cNvCxnSpPr>
            <a:stCxn id="53" idx="2"/>
            <a:endCxn id="55" idx="0"/>
          </p:cNvCxnSpPr>
          <p:nvPr/>
        </p:nvCxnSpPr>
        <p:spPr>
          <a:xfrm rot="16200000">
            <a:off x="2046960" y="5417280"/>
            <a:ext cx="92916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Rectangle 32"/>
          <p:cNvSpPr/>
          <p:nvPr/>
        </p:nvSpPr>
        <p:spPr>
          <a:xfrm>
            <a:off x="5537160" y="8185320"/>
            <a:ext cx="1800360" cy="37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Ｐゴシック"/>
              </a:rPr>
              <a:t>入力ありがとうございました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37"/>
          <p:cNvSpPr/>
          <p:nvPr/>
        </p:nvSpPr>
        <p:spPr>
          <a:xfrm>
            <a:off x="5537160" y="8866080"/>
            <a:ext cx="1800360" cy="37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ＭＳ Ｐゴシック"/>
              </a:rPr>
              <a:t>処置対応画面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18"/>
          <p:cNvSpPr/>
          <p:nvPr/>
        </p:nvSpPr>
        <p:spPr>
          <a:xfrm>
            <a:off x="2513160" y="2568600"/>
            <a:ext cx="1079280" cy="539640"/>
          </a:xfrm>
          <a:prstGeom prst="diamond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Ｐゴシック"/>
              </a:rPr>
              <a:t>外傷 </a:t>
            </a:r>
            <a:r>
              <a:rPr b="0" lang="en-US" sz="800" spc="-1" strike="noStrike">
                <a:solidFill>
                  <a:srgbClr val="000000"/>
                </a:solidFill>
                <a:latin typeface="ＭＳ Ｐゴシック"/>
              </a:rPr>
              <a:t>or </a:t>
            </a:r>
            <a:r>
              <a:rPr b="0" lang="ja-JP" sz="800" spc="-1" strike="noStrike">
                <a:solidFill>
                  <a:srgbClr val="000000"/>
                </a:solidFill>
                <a:latin typeface="ＭＳ Ｐゴシック"/>
              </a:rPr>
              <a:t>誤飲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9"/>
          <p:cNvSpPr/>
          <p:nvPr/>
        </p:nvSpPr>
        <p:spPr>
          <a:xfrm>
            <a:off x="3736440" y="2570040"/>
            <a:ext cx="268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Ｐゴシック"/>
              </a:rPr>
              <a:t>どちらか「はい」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AutoShape 13"/>
          <p:cNvCxnSpPr>
            <a:stCxn id="61" idx="2"/>
            <a:endCxn id="49" idx="0"/>
          </p:cNvCxnSpPr>
          <p:nvPr/>
        </p:nvCxnSpPr>
        <p:spPr>
          <a:xfrm rot="5400000">
            <a:off x="5914440" y="4782600"/>
            <a:ext cx="1044720" cy="1440"/>
          </a:xfrm>
          <a:prstGeom prst="bentConnector3">
            <a:avLst>
              <a:gd name="adj1" fmla="val 500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AutoShape 13"/>
          <p:cNvCxnSpPr>
            <a:stCxn id="58" idx="2"/>
            <a:endCxn id="45" idx="0"/>
          </p:cNvCxnSpPr>
          <p:nvPr/>
        </p:nvCxnSpPr>
        <p:spPr>
          <a:xfrm rot="5400000">
            <a:off x="2529720" y="3090240"/>
            <a:ext cx="505440" cy="541080"/>
          </a:xfrm>
          <a:prstGeom prst="bentConnector3">
            <a:avLst>
              <a:gd name="adj1" fmla="val 5010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AutoShape 13"/>
          <p:cNvCxnSpPr>
            <a:stCxn id="58" idx="3"/>
            <a:endCxn id="64" idx="1"/>
          </p:cNvCxnSpPr>
          <p:nvPr/>
        </p:nvCxnSpPr>
        <p:spPr>
          <a:xfrm flipV="1">
            <a:off x="3592440" y="2828160"/>
            <a:ext cx="2124360" cy="10800"/>
          </a:xfrm>
          <a:prstGeom prst="bentConnector3">
            <a:avLst>
              <a:gd name="adj1" fmla="val 5015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5" name="Text Box 20"/>
          <p:cNvSpPr/>
          <p:nvPr/>
        </p:nvSpPr>
        <p:spPr>
          <a:xfrm>
            <a:off x="2929320" y="3071880"/>
            <a:ext cx="268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Ｐゴシック"/>
              </a:rPr>
              <a:t>どちらも「いいえ」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18"/>
          <p:cNvSpPr/>
          <p:nvPr/>
        </p:nvSpPr>
        <p:spPr>
          <a:xfrm>
            <a:off x="1971720" y="4413240"/>
            <a:ext cx="1079280" cy="539640"/>
          </a:xfrm>
          <a:prstGeom prst="diamond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Ｐゴシック"/>
              </a:rPr>
              <a:t>気になる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Ｐゴシック"/>
              </a:rPr>
              <a:t>症状はない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9"/>
          <p:cNvSpPr/>
          <p:nvPr/>
        </p:nvSpPr>
        <p:spPr>
          <a:xfrm>
            <a:off x="2832480" y="4440240"/>
            <a:ext cx="533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ＭＳ Ｐゴシック"/>
              </a:rPr>
              <a:t>(1</a:t>
            </a:r>
            <a:r>
              <a:rPr b="0" lang="ja-JP" sz="800" spc="-1" strike="noStrike">
                <a:solidFill>
                  <a:srgbClr val="000000"/>
                </a:solidFill>
                <a:latin typeface="ＭＳ Ｐゴシック"/>
              </a:rPr>
              <a:t>つ以上</a:t>
            </a:r>
            <a:r>
              <a:rPr b="0" lang="en-US" sz="800" spc="-1" strike="noStrike">
                <a:solidFill>
                  <a:srgbClr val="000000"/>
                </a:solidFill>
                <a:latin typeface="ＭＳ Ｐゴシック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" name="AutoShape 13"/>
          <p:cNvCxnSpPr>
            <a:stCxn id="53" idx="3"/>
            <a:endCxn id="46" idx="0"/>
          </p:cNvCxnSpPr>
          <p:nvPr/>
        </p:nvCxnSpPr>
        <p:spPr>
          <a:xfrm>
            <a:off x="3051000" y="4683240"/>
            <a:ext cx="541080" cy="619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AutoShape 16"/>
          <p:cNvCxnSpPr>
            <a:stCxn id="46" idx="2"/>
            <a:endCxn id="55" idx="3"/>
          </p:cNvCxnSpPr>
          <p:nvPr/>
        </p:nvCxnSpPr>
        <p:spPr>
          <a:xfrm rot="5400000">
            <a:off x="2986200" y="5546160"/>
            <a:ext cx="670320" cy="54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Text Box 19"/>
          <p:cNvSpPr/>
          <p:nvPr/>
        </p:nvSpPr>
        <p:spPr>
          <a:xfrm>
            <a:off x="1671120" y="4800600"/>
            <a:ext cx="45324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Ｐゴシック"/>
              </a:rPr>
              <a:t>はい 以外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Ｐゴシック"/>
              </a:rPr>
              <a:t>「その他」のみ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13"/>
          <p:cNvCxnSpPr>
            <a:stCxn id="43" idx="3"/>
            <a:endCxn id="71" idx="0"/>
          </p:cNvCxnSpPr>
          <p:nvPr/>
        </p:nvCxnSpPr>
        <p:spPr>
          <a:xfrm>
            <a:off x="7365960" y="1163520"/>
            <a:ext cx="2850840" cy="921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1" name="Rectangle 6"/>
          <p:cNvSpPr/>
          <p:nvPr/>
        </p:nvSpPr>
        <p:spPr>
          <a:xfrm>
            <a:off x="9496440" y="2084400"/>
            <a:ext cx="1440000" cy="17928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Ｐゴシック"/>
              </a:rPr>
              <a:t>全身状態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AutoShape 13"/>
          <p:cNvCxnSpPr>
            <a:stCxn id="73" idx="2"/>
            <a:endCxn id="74" idx="0"/>
          </p:cNvCxnSpPr>
          <p:nvPr/>
        </p:nvCxnSpPr>
        <p:spPr>
          <a:xfrm flipH="1" rot="16200000">
            <a:off x="10073880" y="3250080"/>
            <a:ext cx="284760" cy="1080"/>
          </a:xfrm>
          <a:prstGeom prst="bentConnector3">
            <a:avLst>
              <a:gd name="adj1" fmla="val 5012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" name="Rectangle 8"/>
          <p:cNvSpPr/>
          <p:nvPr/>
        </p:nvSpPr>
        <p:spPr>
          <a:xfrm>
            <a:off x="9496440" y="3828960"/>
            <a:ext cx="1440000" cy="17964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Ｐゴシック"/>
              </a:rPr>
              <a:t>気になる症状</a:t>
            </a:r>
            <a:r>
              <a:rPr b="0" lang="en-US" sz="800" spc="-1" strike="noStrike">
                <a:solidFill>
                  <a:srgbClr val="000000"/>
                </a:solidFill>
                <a:latin typeface="ＭＳ Ｐゴシック"/>
              </a:rPr>
              <a:t> ※</a:t>
            </a:r>
            <a:r>
              <a:rPr b="0" lang="ja-JP" sz="800" spc="-1" strike="noStrike">
                <a:solidFill>
                  <a:srgbClr val="000000"/>
                </a:solidFill>
                <a:latin typeface="ＭＳ Ｐゴシック"/>
              </a:rPr>
              <a:t>最大３つ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9"/>
          <p:cNvSpPr/>
          <p:nvPr/>
        </p:nvSpPr>
        <p:spPr>
          <a:xfrm>
            <a:off x="9545760" y="5451480"/>
            <a:ext cx="1439640" cy="17928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Ｐゴシック"/>
              </a:rPr>
              <a:t>症状の詳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18"/>
          <p:cNvSpPr/>
          <p:nvPr/>
        </p:nvSpPr>
        <p:spPr>
          <a:xfrm>
            <a:off x="8705880" y="4368960"/>
            <a:ext cx="1079640" cy="539640"/>
          </a:xfrm>
          <a:prstGeom prst="diamond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Ｐゴシック"/>
              </a:rPr>
              <a:t>気になる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Ｐゴシック"/>
              </a:rPr>
              <a:t>症状はない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AutoShape 13"/>
          <p:cNvCxnSpPr>
            <a:stCxn id="77" idx="3"/>
            <a:endCxn id="79" idx="1"/>
          </p:cNvCxnSpPr>
          <p:nvPr/>
        </p:nvCxnSpPr>
        <p:spPr>
          <a:xfrm>
            <a:off x="9785520" y="4638960"/>
            <a:ext cx="21600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AutoShape 16"/>
          <p:cNvCxnSpPr>
            <a:stCxn id="76" idx="2"/>
            <a:endCxn id="81" idx="0"/>
          </p:cNvCxnSpPr>
          <p:nvPr/>
        </p:nvCxnSpPr>
        <p:spPr>
          <a:xfrm rot="5400000">
            <a:off x="10140120" y="5755320"/>
            <a:ext cx="249840" cy="720"/>
          </a:xfrm>
          <a:prstGeom prst="bentConnector3">
            <a:avLst>
              <a:gd name="adj1" fmla="val 497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AutoShape 16"/>
          <p:cNvCxnSpPr>
            <a:stCxn id="75" idx="2"/>
            <a:endCxn id="77" idx="0"/>
          </p:cNvCxnSpPr>
          <p:nvPr/>
        </p:nvCxnSpPr>
        <p:spPr>
          <a:xfrm rot="5400000">
            <a:off x="9550800" y="3703320"/>
            <a:ext cx="360720" cy="970920"/>
          </a:xfrm>
          <a:prstGeom prst="bentConnector5">
            <a:avLst>
              <a:gd name="adj1" fmla="val 314185"/>
              <a:gd name="adj2" fmla="val 180155"/>
              <a:gd name="adj3" fmla="val 3546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3" name="AutoShape 14"/>
          <p:cNvCxnSpPr>
            <a:stCxn id="43" idx="1"/>
            <a:endCxn id="44" idx="0"/>
          </p:cNvCxnSpPr>
          <p:nvPr/>
        </p:nvCxnSpPr>
        <p:spPr>
          <a:xfrm flipV="1" rot="10800000">
            <a:off x="2512080" y="1163160"/>
            <a:ext cx="3053880" cy="965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" name="AutoShape 14"/>
          <p:cNvCxnSpPr>
            <a:stCxn id="85" idx="3"/>
            <a:endCxn id="58" idx="1"/>
          </p:cNvCxnSpPr>
          <p:nvPr/>
        </p:nvCxnSpPr>
        <p:spPr>
          <a:xfrm>
            <a:off x="1936800" y="2838600"/>
            <a:ext cx="57672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6" name="AutoShape 16"/>
          <p:cNvCxnSpPr>
            <a:stCxn id="47" idx="2"/>
            <a:endCxn id="56" idx="1"/>
          </p:cNvCxnSpPr>
          <p:nvPr/>
        </p:nvCxnSpPr>
        <p:spPr>
          <a:xfrm flipH="1" rot="16200000">
            <a:off x="3507120" y="6343560"/>
            <a:ext cx="1035360" cy="3025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AutoShape 16"/>
          <p:cNvCxnSpPr>
            <a:stCxn id="56" idx="2"/>
            <a:endCxn id="57" idx="0"/>
          </p:cNvCxnSpPr>
          <p:nvPr/>
        </p:nvCxnSpPr>
        <p:spPr>
          <a:xfrm rot="16200000">
            <a:off x="6285600" y="8714520"/>
            <a:ext cx="30348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Text Box 19"/>
          <p:cNvSpPr/>
          <p:nvPr/>
        </p:nvSpPr>
        <p:spPr>
          <a:xfrm>
            <a:off x="9528480" y="4370400"/>
            <a:ext cx="533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ＭＳ Ｐゴシック"/>
              </a:rPr>
              <a:t>(1</a:t>
            </a:r>
            <a:r>
              <a:rPr b="0" lang="ja-JP" sz="800" spc="-1" strike="noStrike">
                <a:solidFill>
                  <a:srgbClr val="000000"/>
                </a:solidFill>
                <a:latin typeface="ＭＳ Ｐゴシック"/>
              </a:rPr>
              <a:t>つ以上</a:t>
            </a:r>
            <a:r>
              <a:rPr b="0" lang="en-US" sz="800" spc="-1" strike="noStrike">
                <a:solidFill>
                  <a:srgbClr val="000000"/>
                </a:solidFill>
                <a:latin typeface="ＭＳ Ｐゴシック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9"/>
          <p:cNvSpPr/>
          <p:nvPr/>
        </p:nvSpPr>
        <p:spPr>
          <a:xfrm>
            <a:off x="8654760" y="4871880"/>
            <a:ext cx="45324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Ｐゴシック"/>
              </a:rPr>
              <a:t>はい 以外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Ｐゴシック"/>
              </a:rPr>
              <a:t>「その他」のみ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AutoShape 16"/>
          <p:cNvCxnSpPr>
            <a:stCxn id="77" idx="2"/>
            <a:endCxn id="81" idx="1"/>
          </p:cNvCxnSpPr>
          <p:nvPr/>
        </p:nvCxnSpPr>
        <p:spPr>
          <a:xfrm flipH="1" rot="16200000">
            <a:off x="8864640" y="5289480"/>
            <a:ext cx="1242000" cy="479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Rectangle 10"/>
          <p:cNvSpPr/>
          <p:nvPr/>
        </p:nvSpPr>
        <p:spPr>
          <a:xfrm>
            <a:off x="9545760" y="7159680"/>
            <a:ext cx="1439640" cy="17928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Ｐゴシック"/>
              </a:rPr>
              <a:t>既往歴</a:t>
            </a:r>
            <a:r>
              <a:rPr b="0" lang="en-US" sz="800" spc="-1" strike="noStrike">
                <a:solidFill>
                  <a:srgbClr val="000000"/>
                </a:solidFill>
                <a:latin typeface="ＭＳ Ｐゴシック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AutoShape 16"/>
          <p:cNvCxnSpPr>
            <a:stCxn id="91" idx="2"/>
            <a:endCxn id="56" idx="3"/>
          </p:cNvCxnSpPr>
          <p:nvPr/>
        </p:nvCxnSpPr>
        <p:spPr>
          <a:xfrm rot="5400000">
            <a:off x="8283600" y="6392520"/>
            <a:ext cx="1035360" cy="2928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9" name="AutoShape 18"/>
          <p:cNvSpPr/>
          <p:nvPr/>
        </p:nvSpPr>
        <p:spPr>
          <a:xfrm>
            <a:off x="10001160" y="4368960"/>
            <a:ext cx="1079640" cy="539640"/>
          </a:xfrm>
          <a:prstGeom prst="diamond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Ｐゴシック"/>
              </a:rPr>
              <a:t>選択症状で</a:t>
            </a:r>
            <a:r>
              <a:rPr b="0" lang="en-US" sz="800" spc="-1" strike="noStrike">
                <a:solidFill>
                  <a:srgbClr val="000000"/>
                </a:solidFill>
                <a:latin typeface="ＭＳ Ｐゴシック"/>
              </a:rPr>
              <a:t>1</a:t>
            </a:r>
            <a:r>
              <a:rPr b="0" lang="ja-JP" sz="800" spc="-1" strike="noStrike">
                <a:solidFill>
                  <a:srgbClr val="000000"/>
                </a:solidFill>
                <a:latin typeface="ＭＳ Ｐゴシック"/>
              </a:rPr>
              <a:t>つ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Ｐゴシック"/>
              </a:rPr>
              <a:t>以上詳細が設定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Ｐゴシック"/>
              </a:rPr>
              <a:t>されている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3" name="AutoShape 16"/>
          <p:cNvCxnSpPr>
            <a:stCxn id="79" idx="2"/>
            <a:endCxn id="76" idx="0"/>
          </p:cNvCxnSpPr>
          <p:nvPr/>
        </p:nvCxnSpPr>
        <p:spPr>
          <a:xfrm rot="5400000">
            <a:off x="10131840" y="5042160"/>
            <a:ext cx="543240" cy="276120"/>
          </a:xfrm>
          <a:prstGeom prst="bentConnector3">
            <a:avLst>
              <a:gd name="adj1" fmla="val 5006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4" name="Text Box 19"/>
          <p:cNvSpPr/>
          <p:nvPr/>
        </p:nvSpPr>
        <p:spPr>
          <a:xfrm>
            <a:off x="10509120" y="4944960"/>
            <a:ext cx="354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ＭＳ Ｐゴシック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5" name="AutoShape 13"/>
          <p:cNvCxnSpPr>
            <a:stCxn id="79" idx="3"/>
            <a:endCxn id="81" idx="3"/>
          </p:cNvCxnSpPr>
          <p:nvPr/>
        </p:nvCxnSpPr>
        <p:spPr>
          <a:xfrm flipH="1">
            <a:off x="10804680" y="4638960"/>
            <a:ext cx="276480" cy="1511640"/>
          </a:xfrm>
          <a:prstGeom prst="bentConnector3">
            <a:avLst>
              <a:gd name="adj1" fmla="val -8604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6" name="Text Box 19"/>
          <p:cNvSpPr/>
          <p:nvPr/>
        </p:nvSpPr>
        <p:spPr>
          <a:xfrm>
            <a:off x="11071080" y="4368960"/>
            <a:ext cx="340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ＭＳ Ｐゴシック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AutoShape 13"/>
          <p:cNvCxnSpPr>
            <a:stCxn id="55" idx="2"/>
            <a:endCxn id="47" idx="0"/>
          </p:cNvCxnSpPr>
          <p:nvPr/>
        </p:nvCxnSpPr>
        <p:spPr>
          <a:xfrm flipH="1" rot="16200000">
            <a:off x="2142720" y="6789960"/>
            <a:ext cx="738720" cy="1080"/>
          </a:xfrm>
          <a:prstGeom prst="bentConnector3">
            <a:avLst>
              <a:gd name="adj1" fmla="val 5007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8" name="テキスト ボックス 30"/>
          <p:cNvSpPr/>
          <p:nvPr/>
        </p:nvSpPr>
        <p:spPr>
          <a:xfrm>
            <a:off x="5445720" y="155520"/>
            <a:ext cx="45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ＭＳ Ｐゴシック"/>
              </a:rPr>
              <a:t>step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12"/>
          <p:cNvSpPr/>
          <p:nvPr/>
        </p:nvSpPr>
        <p:spPr>
          <a:xfrm>
            <a:off x="5445720" y="750960"/>
            <a:ext cx="45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ＭＳ Ｐゴシック"/>
              </a:rPr>
              <a:t>step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113"/>
          <p:cNvSpPr/>
          <p:nvPr/>
        </p:nvSpPr>
        <p:spPr>
          <a:xfrm>
            <a:off x="1640520" y="1890720"/>
            <a:ext cx="45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ＭＳ Ｐゴシック"/>
              </a:rPr>
              <a:t>step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114"/>
          <p:cNvSpPr/>
          <p:nvPr/>
        </p:nvSpPr>
        <p:spPr>
          <a:xfrm>
            <a:off x="5532120" y="2517840"/>
            <a:ext cx="573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ＭＳ Ｐゴシック"/>
              </a:rPr>
              <a:t>step23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テキスト ボックス 116"/>
          <p:cNvSpPr/>
          <p:nvPr/>
        </p:nvSpPr>
        <p:spPr>
          <a:xfrm>
            <a:off x="5543280" y="5113440"/>
            <a:ext cx="573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ＭＳ Ｐゴシック"/>
              </a:rPr>
              <a:t>step23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テキスト ボックス 117"/>
          <p:cNvSpPr/>
          <p:nvPr/>
        </p:nvSpPr>
        <p:spPr>
          <a:xfrm>
            <a:off x="1637280" y="3367080"/>
            <a:ext cx="45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ＭＳ Ｐゴシック"/>
              </a:rPr>
              <a:t>step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テキスト ボックス 119"/>
          <p:cNvSpPr/>
          <p:nvPr/>
        </p:nvSpPr>
        <p:spPr>
          <a:xfrm>
            <a:off x="1591200" y="6943680"/>
            <a:ext cx="45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ＭＳ Ｐゴシック"/>
              </a:rPr>
              <a:t>step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20"/>
          <p:cNvSpPr/>
          <p:nvPr/>
        </p:nvSpPr>
        <p:spPr>
          <a:xfrm>
            <a:off x="5385240" y="7970760"/>
            <a:ext cx="45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ＭＳ Ｐゴシック"/>
              </a:rPr>
              <a:t>step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テキスト ボックス 121"/>
          <p:cNvSpPr/>
          <p:nvPr/>
        </p:nvSpPr>
        <p:spPr>
          <a:xfrm>
            <a:off x="5385240" y="8688240"/>
            <a:ext cx="45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ＭＳ Ｐゴシック"/>
              </a:rPr>
              <a:t>step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テキスト ボックス 118"/>
          <p:cNvSpPr/>
          <p:nvPr/>
        </p:nvSpPr>
        <p:spPr>
          <a:xfrm>
            <a:off x="2706840" y="5087880"/>
            <a:ext cx="515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ＭＳ Ｐゴシック"/>
              </a:rPr>
              <a:t>step3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94560" y="1055520"/>
            <a:ext cx="506520" cy="213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ＭＳ Ｐゴシック"/>
              </a:rPr>
              <a:t>16</a:t>
            </a:r>
            <a:r>
              <a:rPr b="0" lang="ja-JP" sz="800" spc="-1" strike="noStrike">
                <a:solidFill>
                  <a:srgbClr val="000000"/>
                </a:solidFill>
                <a:latin typeface="ＭＳ Ｐゴシック"/>
              </a:rPr>
              <a:t>歳未満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71640" y="1055520"/>
            <a:ext cx="506520" cy="213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ＭＳ Ｐゴシック"/>
              </a:rPr>
              <a:t>16</a:t>
            </a:r>
            <a:r>
              <a:rPr b="0" lang="ja-JP" sz="800" spc="-1" strike="noStrike">
                <a:solidFill>
                  <a:srgbClr val="000000"/>
                </a:solidFill>
                <a:latin typeface="ＭＳ Ｐゴシック"/>
              </a:rPr>
              <a:t>歳以上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テキスト ボックス 113"/>
          <p:cNvSpPr/>
          <p:nvPr/>
        </p:nvSpPr>
        <p:spPr>
          <a:xfrm>
            <a:off x="9331920" y="1847880"/>
            <a:ext cx="45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ＭＳ Ｐゴシック"/>
              </a:rPr>
              <a:t>step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17"/>
          <p:cNvSpPr/>
          <p:nvPr/>
        </p:nvSpPr>
        <p:spPr>
          <a:xfrm>
            <a:off x="9336600" y="3587760"/>
            <a:ext cx="45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ＭＳ Ｐゴシック"/>
              </a:rPr>
              <a:t>step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19"/>
          <p:cNvSpPr/>
          <p:nvPr/>
        </p:nvSpPr>
        <p:spPr>
          <a:xfrm>
            <a:off x="9439560" y="6942240"/>
            <a:ext cx="515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ＭＳ Ｐゴシック"/>
              </a:rPr>
              <a:t>step4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テキスト ボックス 118"/>
          <p:cNvSpPr/>
          <p:nvPr/>
        </p:nvSpPr>
        <p:spPr>
          <a:xfrm>
            <a:off x="9402840" y="5232240"/>
            <a:ext cx="515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ＭＳ Ｐゴシック"/>
              </a:rPr>
              <a:t>step3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4" name="AutoShape 13"/>
          <p:cNvCxnSpPr>
            <a:stCxn id="50" idx="2"/>
            <a:endCxn id="115" idx="0"/>
          </p:cNvCxnSpPr>
          <p:nvPr/>
        </p:nvCxnSpPr>
        <p:spPr>
          <a:xfrm rot="5400000">
            <a:off x="6067440" y="6789960"/>
            <a:ext cx="738720" cy="1440"/>
          </a:xfrm>
          <a:prstGeom prst="bentConnector3">
            <a:avLst>
              <a:gd name="adj1" fmla="val 5007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9" name="Rectangle 7"/>
          <p:cNvSpPr/>
          <p:nvPr/>
        </p:nvSpPr>
        <p:spPr>
          <a:xfrm>
            <a:off x="5716440" y="5305320"/>
            <a:ext cx="1440000" cy="179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Ｐゴシック"/>
              </a:rPr>
              <a:t>外傷一般</a:t>
            </a:r>
            <a:r>
              <a:rPr b="0" lang="en-US" sz="800" spc="-1" strike="noStrike">
                <a:solidFill>
                  <a:srgbClr val="000000"/>
                </a:solidFill>
                <a:latin typeface="ＭＳ Ｐゴシック"/>
              </a:rPr>
              <a:t>Q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602240" y="4152960"/>
            <a:ext cx="1584360" cy="846000"/>
          </a:xfrm>
          <a:prstGeom prst="wedgeRoundRectCallout">
            <a:avLst>
              <a:gd name="adj1" fmla="val 23648"/>
              <a:gd name="adj2" fmla="val 69138"/>
              <a:gd name="adj3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Ｐゴシック"/>
              </a:rPr>
              <a:t>全身状態一般</a:t>
            </a:r>
            <a:r>
              <a:rPr b="0" lang="en-US" sz="800" spc="-1" strike="noStrike">
                <a:solidFill>
                  <a:srgbClr val="000000"/>
                </a:solidFill>
                <a:latin typeface="ＭＳ Ｐゴシック"/>
              </a:rPr>
              <a:t>QA</a:t>
            </a:r>
            <a:r>
              <a:rPr b="0" lang="ja-JP" sz="800" spc="-1" strike="noStrike">
                <a:solidFill>
                  <a:srgbClr val="000000"/>
                </a:solidFill>
                <a:latin typeface="ＭＳ Ｐゴシック"/>
              </a:rPr>
              <a:t>の意識状態が　無反応 </a:t>
            </a:r>
            <a:r>
              <a:rPr b="0" lang="en-US" sz="800" spc="-1" strike="noStrike">
                <a:solidFill>
                  <a:srgbClr val="000000"/>
                </a:solidFill>
                <a:latin typeface="ＭＳ Ｐゴシック"/>
              </a:rPr>
              <a:t>or </a:t>
            </a:r>
            <a:r>
              <a:rPr b="0" lang="ja-JP" sz="800" spc="-1" strike="noStrike">
                <a:solidFill>
                  <a:srgbClr val="000000"/>
                </a:solidFill>
                <a:latin typeface="ＭＳ Ｐゴシック"/>
              </a:rPr>
              <a:t>寝てばかりいる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Ｐゴシック"/>
              </a:rPr>
              <a:t>を選択している場合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Ｐゴシック"/>
              </a:rPr>
              <a:t>「けいれん」についての質問を最上部へ追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7"/>
          <p:cNvSpPr/>
          <p:nvPr/>
        </p:nvSpPr>
        <p:spPr>
          <a:xfrm>
            <a:off x="6689880" y="4513320"/>
            <a:ext cx="1439640" cy="179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Ｐゴシック"/>
              </a:rPr>
              <a:t>交通外傷詳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18"/>
          <p:cNvSpPr/>
          <p:nvPr/>
        </p:nvSpPr>
        <p:spPr>
          <a:xfrm>
            <a:off x="5897520" y="3720960"/>
            <a:ext cx="1079640" cy="540000"/>
          </a:xfrm>
          <a:prstGeom prst="diamond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Ｐゴシック"/>
              </a:rPr>
              <a:t>交通外傷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Ｐゴシック"/>
              </a:rPr>
              <a:t>を選択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13"/>
          <p:cNvCxnSpPr>
            <a:stCxn id="61" idx="3"/>
            <a:endCxn id="117" idx="0"/>
          </p:cNvCxnSpPr>
          <p:nvPr/>
        </p:nvCxnSpPr>
        <p:spPr>
          <a:xfrm>
            <a:off x="6977160" y="3990960"/>
            <a:ext cx="432720" cy="522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" name="AutoShape 13"/>
          <p:cNvCxnSpPr>
            <a:stCxn id="117" idx="2"/>
            <a:endCxn id="49" idx="3"/>
          </p:cNvCxnSpPr>
          <p:nvPr/>
        </p:nvCxnSpPr>
        <p:spPr>
          <a:xfrm rot="5400000">
            <a:off x="6931440" y="4917240"/>
            <a:ext cx="702720" cy="253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0" name="Text Box 19"/>
          <p:cNvSpPr/>
          <p:nvPr/>
        </p:nvSpPr>
        <p:spPr>
          <a:xfrm>
            <a:off x="6887880" y="3720960"/>
            <a:ext cx="354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ＭＳ Ｐゴシック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9"/>
          <p:cNvSpPr/>
          <p:nvPr/>
        </p:nvSpPr>
        <p:spPr>
          <a:xfrm>
            <a:off x="6357600" y="4226040"/>
            <a:ext cx="340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ＭＳ Ｐゴシック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テキスト ボックス 114"/>
          <p:cNvSpPr/>
          <p:nvPr/>
        </p:nvSpPr>
        <p:spPr>
          <a:xfrm>
            <a:off x="6568920" y="4295880"/>
            <a:ext cx="573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ＭＳ Ｐゴシック"/>
              </a:rPr>
              <a:t>step23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AutoShape 13"/>
          <p:cNvCxnSpPr>
            <a:stCxn id="124" idx="2"/>
            <a:endCxn id="61" idx="0"/>
          </p:cNvCxnSpPr>
          <p:nvPr/>
        </p:nvCxnSpPr>
        <p:spPr>
          <a:xfrm flipH="1" rot="16200000">
            <a:off x="6292440" y="3575880"/>
            <a:ext cx="289080" cy="1440"/>
          </a:xfrm>
          <a:prstGeom prst="bentConnector3">
            <a:avLst>
              <a:gd name="adj1" fmla="val 498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テキスト ボックス 115"/>
          <p:cNvSpPr/>
          <p:nvPr/>
        </p:nvSpPr>
        <p:spPr>
          <a:xfrm>
            <a:off x="5541840" y="3048120"/>
            <a:ext cx="573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ＭＳ Ｐゴシック"/>
              </a:rPr>
              <a:t>step23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5716440" y="3252960"/>
            <a:ext cx="1440000" cy="179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Ｐゴシック"/>
              </a:rPr>
              <a:t>救急外傷詳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7"/>
          <p:cNvSpPr/>
          <p:nvPr/>
        </p:nvSpPr>
        <p:spPr>
          <a:xfrm>
            <a:off x="5716440" y="2738520"/>
            <a:ext cx="1440000" cy="179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Ｐゴシック"/>
              </a:rPr>
              <a:t>救急外傷選択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AutoShape 13"/>
          <p:cNvCxnSpPr>
            <a:stCxn id="64" idx="2"/>
            <a:endCxn id="124" idx="0"/>
          </p:cNvCxnSpPr>
          <p:nvPr/>
        </p:nvCxnSpPr>
        <p:spPr>
          <a:xfrm rot="16200000">
            <a:off x="6269040" y="3085200"/>
            <a:ext cx="33552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5" name="AutoShape 18"/>
          <p:cNvSpPr/>
          <p:nvPr/>
        </p:nvSpPr>
        <p:spPr>
          <a:xfrm>
            <a:off x="1971720" y="5881680"/>
            <a:ext cx="1079280" cy="539640"/>
          </a:xfrm>
          <a:prstGeom prst="diamond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Ｐゴシック"/>
              </a:rPr>
              <a:t>総合重症度判定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6"/>
          <p:cNvSpPr/>
          <p:nvPr/>
        </p:nvSpPr>
        <p:spPr>
          <a:xfrm>
            <a:off x="9496440" y="3392640"/>
            <a:ext cx="1440000" cy="17928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Ｐゴシック"/>
              </a:rPr>
              <a:t>既往歴１</a:t>
            </a:r>
            <a:r>
              <a:rPr b="0" lang="en-US" sz="800" spc="-1" strike="noStrike">
                <a:solidFill>
                  <a:srgbClr val="000000"/>
                </a:solidFill>
                <a:latin typeface="ＭＳ Ｐゴシック"/>
              </a:rPr>
              <a:t>/</a:t>
            </a:r>
            <a:r>
              <a:rPr b="0" lang="ja-JP" sz="800" spc="-1" strike="noStrike">
                <a:solidFill>
                  <a:srgbClr val="000000"/>
                </a:solidFill>
                <a:latin typeface="ＭＳ Ｐゴシック"/>
              </a:rPr>
              <a:t>既往歴</a:t>
            </a:r>
            <a:r>
              <a:rPr b="0" lang="en-US" sz="800" spc="-1" strike="noStrike">
                <a:solidFill>
                  <a:srgbClr val="000000"/>
                </a:solidFill>
                <a:latin typeface="ＭＳ Ｐゴシック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113"/>
          <p:cNvSpPr/>
          <p:nvPr/>
        </p:nvSpPr>
        <p:spPr>
          <a:xfrm>
            <a:off x="9328320" y="3156120"/>
            <a:ext cx="515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ＭＳ Ｐゴシック"/>
              </a:rPr>
              <a:t>step2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AutoShape 13"/>
          <p:cNvCxnSpPr>
            <a:stCxn id="74" idx="2"/>
            <a:endCxn id="75" idx="0"/>
          </p:cNvCxnSpPr>
          <p:nvPr/>
        </p:nvCxnSpPr>
        <p:spPr>
          <a:xfrm rot="16200000">
            <a:off x="10087920" y="3700440"/>
            <a:ext cx="25740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AutoShape 18"/>
          <p:cNvSpPr/>
          <p:nvPr/>
        </p:nvSpPr>
        <p:spPr>
          <a:xfrm>
            <a:off x="5897520" y="5881680"/>
            <a:ext cx="1079640" cy="539640"/>
          </a:xfrm>
          <a:prstGeom prst="diamond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Ｐゴシック"/>
              </a:rPr>
              <a:t>総合重症度判定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10"/>
          <p:cNvSpPr/>
          <p:nvPr/>
        </p:nvSpPr>
        <p:spPr>
          <a:xfrm>
            <a:off x="5716440" y="7159680"/>
            <a:ext cx="1440000" cy="179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Ｐゴシック"/>
              </a:rPr>
              <a:t>既往歴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119"/>
          <p:cNvSpPr/>
          <p:nvPr/>
        </p:nvSpPr>
        <p:spPr>
          <a:xfrm>
            <a:off x="5548680" y="6943680"/>
            <a:ext cx="45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ＭＳ Ｐゴシック"/>
              </a:rPr>
              <a:t>step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AutoShape 16"/>
          <p:cNvCxnSpPr>
            <a:stCxn id="115" idx="2"/>
            <a:endCxn id="56" idx="0"/>
          </p:cNvCxnSpPr>
          <p:nvPr/>
        </p:nvCxnSpPr>
        <p:spPr>
          <a:xfrm flipH="1" rot="16200000">
            <a:off x="6013800" y="7761600"/>
            <a:ext cx="846720" cy="1080"/>
          </a:xfrm>
          <a:prstGeom prst="bentConnector3">
            <a:avLst>
              <a:gd name="adj1" fmla="val 4997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1" name="AutoShape 18"/>
          <p:cNvSpPr/>
          <p:nvPr/>
        </p:nvSpPr>
        <p:spPr>
          <a:xfrm>
            <a:off x="9725040" y="5880240"/>
            <a:ext cx="1079640" cy="539640"/>
          </a:xfrm>
          <a:prstGeom prst="diamond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Ｐゴシック"/>
              </a:rPr>
              <a:t>総合重症度判定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AutoShape 16"/>
          <p:cNvCxnSpPr>
            <a:stCxn id="81" idx="2"/>
            <a:endCxn id="91" idx="0"/>
          </p:cNvCxnSpPr>
          <p:nvPr/>
        </p:nvCxnSpPr>
        <p:spPr>
          <a:xfrm flipH="1" rot="16200000">
            <a:off x="9895320" y="6789240"/>
            <a:ext cx="740160" cy="720"/>
          </a:xfrm>
          <a:prstGeom prst="bentConnector3">
            <a:avLst>
              <a:gd name="adj1" fmla="val 5007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5" name="AutoShape 18"/>
          <p:cNvSpPr/>
          <p:nvPr/>
        </p:nvSpPr>
        <p:spPr>
          <a:xfrm>
            <a:off x="857160" y="2568600"/>
            <a:ext cx="1079640" cy="539640"/>
          </a:xfrm>
          <a:prstGeom prst="diamond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Ｐゴシック"/>
              </a:rPr>
              <a:t>重症度判定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AutoShape 14"/>
          <p:cNvCxnSpPr>
            <a:stCxn id="44" idx="2"/>
            <a:endCxn id="85" idx="0"/>
          </p:cNvCxnSpPr>
          <p:nvPr/>
        </p:nvCxnSpPr>
        <p:spPr>
          <a:xfrm rot="5400000">
            <a:off x="1824120" y="1881000"/>
            <a:ext cx="260640" cy="1115280"/>
          </a:xfrm>
          <a:prstGeom prst="bentConnector5">
            <a:avLst>
              <a:gd name="adj1" fmla="val 396542"/>
              <a:gd name="adj2" fmla="val 169777"/>
              <a:gd name="adj3" fmla="val 1065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3" name="AutoShape 14"/>
          <p:cNvCxnSpPr>
            <a:stCxn id="85" idx="2"/>
            <a:endCxn id="56" idx="1"/>
          </p:cNvCxnSpPr>
          <p:nvPr/>
        </p:nvCxnSpPr>
        <p:spPr>
          <a:xfrm flipH="1" rot="16200000">
            <a:off x="834480" y="3670920"/>
            <a:ext cx="5266080" cy="4140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AutoShape 18"/>
          <p:cNvSpPr/>
          <p:nvPr/>
        </p:nvSpPr>
        <p:spPr>
          <a:xfrm>
            <a:off x="9675720" y="2568600"/>
            <a:ext cx="1079640" cy="539640"/>
          </a:xfrm>
          <a:prstGeom prst="diamond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Ｐゴシック"/>
              </a:rPr>
              <a:t>重症度判定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4" name="AutoShape 13"/>
          <p:cNvCxnSpPr>
            <a:stCxn id="71" idx="2"/>
            <a:endCxn id="73" idx="0"/>
          </p:cNvCxnSpPr>
          <p:nvPr/>
        </p:nvCxnSpPr>
        <p:spPr>
          <a:xfrm rot="5400000">
            <a:off x="10063440" y="2415600"/>
            <a:ext cx="305280" cy="1080"/>
          </a:xfrm>
          <a:prstGeom prst="bentConnector3">
            <a:avLst>
              <a:gd name="adj1" fmla="val 4982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5" name="AutoShape 13"/>
          <p:cNvCxnSpPr>
            <a:stCxn id="73" idx="3"/>
            <a:endCxn id="56" idx="3"/>
          </p:cNvCxnSpPr>
          <p:nvPr/>
        </p:nvCxnSpPr>
        <p:spPr>
          <a:xfrm flipH="1">
            <a:off x="7337520" y="2838600"/>
            <a:ext cx="3418200" cy="5535720"/>
          </a:xfrm>
          <a:prstGeom prst="bentConnector3">
            <a:avLst>
              <a:gd name="adj1" fmla="val -69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6" name="Text Box 19"/>
          <p:cNvSpPr/>
          <p:nvPr/>
        </p:nvSpPr>
        <p:spPr>
          <a:xfrm>
            <a:off x="10823760" y="2568600"/>
            <a:ext cx="488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Ｐゴシック"/>
              </a:rPr>
              <a:t>緊急の場合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10227240" y="3071880"/>
            <a:ext cx="427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Ｐゴシック"/>
              </a:rPr>
              <a:t>緊急以外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9"/>
          <p:cNvSpPr/>
          <p:nvPr/>
        </p:nvSpPr>
        <p:spPr>
          <a:xfrm>
            <a:off x="885960" y="3127320"/>
            <a:ext cx="488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Ｐゴシック"/>
              </a:rPr>
              <a:t>緊急の場合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9"/>
          <p:cNvSpPr/>
          <p:nvPr/>
        </p:nvSpPr>
        <p:spPr>
          <a:xfrm>
            <a:off x="1802520" y="2540160"/>
            <a:ext cx="427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Ｐゴシック"/>
              </a:rPr>
              <a:t>緊急以外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1T04:19:09Z</dcterms:created>
  <dc:creator>nh</dc:creator>
  <dc:description/>
  <dc:language>en-US</dc:language>
  <cp:lastModifiedBy>tro</cp:lastModifiedBy>
  <cp:lastPrinted>2011-06-04T09:13:41Z</cp:lastPrinted>
  <dcterms:modified xsi:type="dcterms:W3CDTF">2012-02-09T09:58:40Z</dcterms:modified>
  <cp:revision>62</cp:revision>
  <dc:subject/>
  <dc:title>スライド 1</dc:title>
</cp:coreProperties>
</file>